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media/image51.wmf" ContentType="image/x-wmf"/>
  <Override PartName="/ppt/media/image50.wmf" ContentType="image/x-wmf"/>
  <Override PartName="/ppt/media/image46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drumroll.wav" ContentType="audio/x-wav"/>
  <Override PartName="/ppt/media/EXPLODE.WAV" ContentType="audio/x-wav"/>
  <Override PartName="/ppt/media/image33.wmf" ContentType="image/x-wmf"/>
  <Override PartName="/ppt/media/image37.wmf" ContentType="image/x-wmf"/>
  <Override PartName="/ppt/media/image32.wmf" ContentType="image/x-wmf"/>
  <Override PartName="/ppt/media/image38.wmf" ContentType="image/x-wmf"/>
  <Override PartName="/ppt/media/image8.wmf" ContentType="image/x-wmf"/>
  <Override PartName="/ppt/media/image39.wmf" ContentType="image/x-wmf"/>
  <Override PartName="/ppt/media/image9.wmf" ContentType="image/x-wmf"/>
  <Override PartName="/ppt/media/image34.wmf" ContentType="image/x-wmf"/>
  <Override PartName="/ppt/media/image10.wmf" ContentType="image/x-wmf"/>
  <Override PartName="/ppt/media/image47.wmf" ContentType="image/x-wmf"/>
  <Override PartName="/ppt/media/image13.wmf" ContentType="image/x-wmf"/>
  <Override PartName="/ppt/media/image1.wmf" ContentType="image/x-wmf"/>
  <Override PartName="/ppt/media/image31.wmf" ContentType="image/x-wmf"/>
  <Override PartName="/ppt/media/image59.wmf" ContentType="image/x-wmf"/>
  <Override PartName="/ppt/media/image22.wmf" ContentType="image/x-wmf"/>
  <Override PartName="/ppt/media/image60.wmf" ContentType="image/x-wmf"/>
  <Override PartName="/ppt/media/image58.wmf" ContentType="image/x-wmf"/>
  <Override PartName="/ppt/media/image21.wmf" ContentType="image/x-wmf"/>
  <Override PartName="/ppt/media/image57.wmf" ContentType="image/x-wmf"/>
  <Override PartName="/ppt/media/image7.wmf" ContentType="image/x-wmf"/>
  <Override PartName="/ppt/media/image19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3.wmf" ContentType="image/x-wmf"/>
  <Override PartName="/ppt/media/image15.wmf" ContentType="image/x-wmf"/>
  <Override PartName="/ppt/media/image20.wmf" ContentType="image/x-wmf"/>
  <Override PartName="/ppt/media/driveby.wav" ContentType="audio/x-wav"/>
  <Override PartName="/ppt/media/image52.wmf" ContentType="image/x-wmf"/>
  <Override PartName="/ppt/media/image12.wmf" ContentType="image/x-wmf"/>
  <Override PartName="/ppt/media/CAMERA.WAV" ContentType="audio/x-wav"/>
  <Override PartName="/ppt/media/image45.wmf" ContentType="image/x-wmf"/>
  <Override PartName="/ppt/media/image2.wmf" ContentType="image/x-wmf"/>
  <Override PartName="/ppt/media/image14.wmf" ContentType="image/x-wmf"/>
  <Override PartName="/ppt/media/LASER.WAV" ContentType="audio/x-wav"/>
  <Override PartName="/ppt/media/image17.wmf" ContentType="image/x-wmf"/>
  <Override PartName="/ppt/media/image5.wmf" ContentType="image/x-wmf"/>
  <Override PartName="/ppt/media/image35.wmf" ContentType="image/x-wmf"/>
  <Override PartName="/ppt/media/image4.wmf" ContentType="image/x-wmf"/>
  <Override PartName="/ppt/media/image16.wmf" ContentType="image/x-wmf"/>
  <Override PartName="/ppt/media/WHOOSH.WAV" ContentType="audio/x-wav"/>
  <Override PartName="/ppt/media/image29.wmf" ContentType="image/x-wmf"/>
  <Override PartName="/ppt/media/image49.wmf" ContentType="image/x-wmf"/>
  <Override PartName="/ppt/media/CHIMES.WAV" ContentType="audio/x-wav"/>
  <Override PartName="/ppt/media/image28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gunshot.wav" ContentType="audio/x-wav"/>
  <Override PartName="/ppt/media/image25.wmf" ContentType="image/x-wmf"/>
  <Override PartName="/ppt/media/image23.wmf" ContentType="image/x-wmf"/>
  <Override PartName="/ppt/media/image24.wmf" ContentType="image/x-wmf"/>
  <Override PartName="/ppt/media/image26.wmf" ContentType="image/x-wmf"/>
  <Override PartName="/ppt/media/image27.wmf" ContentType="image/x-wmf"/>
  <Override PartName="/ppt/media/image3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8497-88E3-4BEB-849E-13C97FC0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447D-F434-4B1B-B537-340245C5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880C-4C6F-4DCF-ACE5-0384013B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DB5C-5DBE-44D4-AEA9-07D246BA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FA40-D102-4DBB-B6FB-94DA4B16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AC57-81E1-4DA2-94DB-4F159F3A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46B1-438E-4CF4-A3C5-B806CCEB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ED6C-4540-43A3-B3B6-48207ACA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F07E-5916-4003-8D9A-8F0C5E44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2688-BB57-4414-BA6E-9ED3C3A8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FE8B-7BB8-4A13-8EF0-AE58AC13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8AAB-11CD-40C2-B061-29D9139F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7E45-D964-45BD-AD98-C53E0966A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audio" Target="../media/WHOOSH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AMERA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EXPLODE.WAV"/><Relationship Id="rId20" Type="http://schemas.openxmlformats.org/officeDocument/2006/relationships/audio" Target="../media/gunshot.wav"/><Relationship Id="rId21" Type="http://schemas.openxmlformats.org/officeDocument/2006/relationships/audio" Target="../media/gunshot.wav"/><Relationship Id="rId22" Type="http://schemas.openxmlformats.org/officeDocument/2006/relationships/audio" Target="../media/EXPLODE.WAV"/><Relationship Id="rId23" Type="http://schemas.openxmlformats.org/officeDocument/2006/relationships/audio" Target="../media/driveby.wav"/><Relationship Id="rId24" Type="http://schemas.openxmlformats.org/officeDocument/2006/relationships/audio" Target="../media/LASER.WAV"/><Relationship Id="rId25" Type="http://schemas.openxmlformats.org/officeDocument/2006/relationships/audio" Target="../media/driveby.wav"/><Relationship Id="rId26" Type="http://schemas.openxmlformats.org/officeDocument/2006/relationships/audio" Target="../media/LASER.WAV"/><Relationship Id="rId27" Type="http://schemas.openxmlformats.org/officeDocument/2006/relationships/audio" Target="../media/EXPLODE.WAV"/><Relationship Id="rId2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audio" Target="../media/CHIMES.WAV"/><Relationship Id="rId10" Type="http://schemas.openxmlformats.org/officeDocument/2006/relationships/audio" Target="../media/CAMERA.WAV"/><Relationship Id="rId11" Type="http://schemas.openxmlformats.org/officeDocument/2006/relationships/audio" Target="../media/driveby.wav"/><Relationship Id="rId12" Type="http://schemas.openxmlformats.org/officeDocument/2006/relationships/audio" Target="../media/LASER.WAV"/><Relationship Id="rId13" Type="http://schemas.openxmlformats.org/officeDocument/2006/relationships/audio" Target="../media/driveby.wav"/><Relationship Id="rId14" Type="http://schemas.openxmlformats.org/officeDocument/2006/relationships/audio" Target="../media/LASER.WAV"/><Relationship Id="rId15" Type="http://schemas.openxmlformats.org/officeDocument/2006/relationships/audio" Target="../media/EXPLODE.WAV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audio" Target="../media/CHIMES.WAV"/><Relationship Id="rId10" Type="http://schemas.openxmlformats.org/officeDocument/2006/relationships/audio" Target="../media/CAMERA.WAV"/><Relationship Id="rId11" Type="http://schemas.openxmlformats.org/officeDocument/2006/relationships/audio" Target="../media/driveby.wav"/><Relationship Id="rId12" Type="http://schemas.openxmlformats.org/officeDocument/2006/relationships/audio" Target="../media/LASER.WAV"/><Relationship Id="rId13" Type="http://schemas.openxmlformats.org/officeDocument/2006/relationships/audio" Target="../media/driveby.wav"/><Relationship Id="rId14" Type="http://schemas.openxmlformats.org/officeDocument/2006/relationships/audio" Target="../media/LASER.WAV"/><Relationship Id="rId15" Type="http://schemas.openxmlformats.org/officeDocument/2006/relationships/audio" Target="../media/EXPLODE.WAV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audio" Target="../media/CHIMES.WAV"/><Relationship Id="rId10" Type="http://schemas.openxmlformats.org/officeDocument/2006/relationships/audio" Target="../media/CAMERA.WAV"/><Relationship Id="rId11" Type="http://schemas.openxmlformats.org/officeDocument/2006/relationships/audio" Target="../media/driveby.wav"/><Relationship Id="rId12" Type="http://schemas.openxmlformats.org/officeDocument/2006/relationships/audio" Target="../media/LASER.WAV"/><Relationship Id="rId13" Type="http://schemas.openxmlformats.org/officeDocument/2006/relationships/audio" Target="../media/driveby.wav"/><Relationship Id="rId14" Type="http://schemas.openxmlformats.org/officeDocument/2006/relationships/audio" Target="../media/LASER.WAV"/><Relationship Id="rId15" Type="http://schemas.openxmlformats.org/officeDocument/2006/relationships/audio" Target="../media/EXPLODE.WAV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4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1.wmf"/><Relationship Id="rId41" Type="http://schemas.openxmlformats.org/officeDocument/2006/relationships/audio" Target="../media/CHIMES.WAV"/><Relationship Id="rId42" Type="http://schemas.openxmlformats.org/officeDocument/2006/relationships/audio" Target="../media/CAMERA.WAV"/><Relationship Id="rId43" Type="http://schemas.openxmlformats.org/officeDocument/2006/relationships/audio" Target="../media/LASER.WAV"/><Relationship Id="rId44" Type="http://schemas.openxmlformats.org/officeDocument/2006/relationships/audio" Target="../media/LASER.WAV"/><Relationship Id="rId45" Type="http://schemas.openxmlformats.org/officeDocument/2006/relationships/audio" Target="../media/driveby.wav"/><Relationship Id="rId46" Type="http://schemas.openxmlformats.org/officeDocument/2006/relationships/audio" Target="../media/EXPLODE.WAV"/><Relationship Id="rId47" Type="http://schemas.openxmlformats.org/officeDocument/2006/relationships/audio" Target="../media/EXPLODE.WAV"/><Relationship Id="rId48" Type="http://schemas.openxmlformats.org/officeDocument/2006/relationships/audio" Target="../media/drumroll.wav"/><Relationship Id="rId49" Type="http://schemas.openxmlformats.org/officeDocument/2006/relationships/audio" Target="../media/LASER.WAV"/><Relationship Id="rId50" Type="http://schemas.openxmlformats.org/officeDocument/2006/relationships/audio" Target="../media/LASER.WAV"/><Relationship Id="rId51" Type="http://schemas.openxmlformats.org/officeDocument/2006/relationships/audio" Target="../media/LASER.WAV"/><Relationship Id="rId52" Type="http://schemas.openxmlformats.org/officeDocument/2006/relationships/audio" Target="../media/LASER.WAV"/><Relationship Id="rId53" Type="http://schemas.openxmlformats.org/officeDocument/2006/relationships/audio" Target="../media/LASER.WAV"/><Relationship Id="rId54" Type="http://schemas.openxmlformats.org/officeDocument/2006/relationships/audio" Target="../media/LASER.WAV"/><Relationship Id="rId55" Type="http://schemas.openxmlformats.org/officeDocument/2006/relationships/audio" Target="../media/LASER.WAV"/><Relationship Id="rId56" Type="http://schemas.openxmlformats.org/officeDocument/2006/relationships/audio" Target="../media/LASER.WAV"/><Relationship Id="rId57" Type="http://schemas.openxmlformats.org/officeDocument/2006/relationships/audio" Target="../media/LASER.WAV"/><Relationship Id="rId58" Type="http://schemas.openxmlformats.org/officeDocument/2006/relationships/audio" Target="../media/LASER.WAV"/><Relationship Id="rId59" Type="http://schemas.openxmlformats.org/officeDocument/2006/relationships/audio" Target="../media/LASER.WAV"/><Relationship Id="rId60" Type="http://schemas.openxmlformats.org/officeDocument/2006/relationships/audio" Target="../media/LASER.WAV"/><Relationship Id="rId61" Type="http://schemas.openxmlformats.org/officeDocument/2006/relationships/audio" Target="../media/LASER.WAV"/><Relationship Id="rId62" Type="http://schemas.openxmlformats.org/officeDocument/2006/relationships/audio" Target="../media/LASER.WAV"/><Relationship Id="rId63" Type="http://schemas.openxmlformats.org/officeDocument/2006/relationships/audio" Target="../media/LASER.WAV"/><Relationship Id="rId64" Type="http://schemas.openxmlformats.org/officeDocument/2006/relationships/audio" Target="../media/LASER.WAV"/><Relationship Id="rId65" Type="http://schemas.openxmlformats.org/officeDocument/2006/relationships/audio" Target="../media/LASER.WAV"/><Relationship Id="rId66" Type="http://schemas.openxmlformats.org/officeDocument/2006/relationships/audio" Target="../media/LASER.WAV"/><Relationship Id="rId67" Type="http://schemas.openxmlformats.org/officeDocument/2006/relationships/audio" Target="../media/LASER.WAV"/><Relationship Id="rId6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40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4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4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42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43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44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45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46.wmf"/><Relationship Id="rId51" Type="http://schemas.openxmlformats.org/officeDocument/2006/relationships/audio" Target="../media/CAMERA.WAV"/><Relationship Id="rId52" Type="http://schemas.openxmlformats.org/officeDocument/2006/relationships/audio" Target="../media/LASER.WAV"/><Relationship Id="rId53" Type="http://schemas.openxmlformats.org/officeDocument/2006/relationships/audio" Target="../media/LASER.WAV"/><Relationship Id="rId54" Type="http://schemas.openxmlformats.org/officeDocument/2006/relationships/audio" Target="../media/driveby.wav"/><Relationship Id="rId55" Type="http://schemas.openxmlformats.org/officeDocument/2006/relationships/audio" Target="../media/EXPLODE.WAV"/><Relationship Id="rId56" Type="http://schemas.openxmlformats.org/officeDocument/2006/relationships/audio" Target="../media/EXPLODE.WAV"/><Relationship Id="rId57" Type="http://schemas.openxmlformats.org/officeDocument/2006/relationships/audio" Target="../media/EXPLODE.WAV"/><Relationship Id="rId58" Type="http://schemas.openxmlformats.org/officeDocument/2006/relationships/audio" Target="../media/driveby.wav"/><Relationship Id="rId59" Type="http://schemas.openxmlformats.org/officeDocument/2006/relationships/audio" Target="../media/LASER.WAV"/><Relationship Id="rId60" Type="http://schemas.openxmlformats.org/officeDocument/2006/relationships/audio" Target="../media/driveby.wav"/><Relationship Id="rId61" Type="http://schemas.openxmlformats.org/officeDocument/2006/relationships/audio" Target="../media/LASER.WAV"/><Relationship Id="rId62" Type="http://schemas.openxmlformats.org/officeDocument/2006/relationships/audio" Target="../media/driveby.wav"/><Relationship Id="rId63" Type="http://schemas.openxmlformats.org/officeDocument/2006/relationships/audio" Target="../media/LASER.WAV"/><Relationship Id="rId64" Type="http://schemas.openxmlformats.org/officeDocument/2006/relationships/audio" Target="../media/EXPLODE.WAV"/><Relationship Id="rId65" Type="http://schemas.openxmlformats.org/officeDocument/2006/relationships/audio" Target="../media/drumroll.wav"/><Relationship Id="rId66" Type="http://schemas.openxmlformats.org/officeDocument/2006/relationships/audio" Target="../media/LASER.WAV"/><Relationship Id="rId67" Type="http://schemas.openxmlformats.org/officeDocument/2006/relationships/audio" Target="../media/LASER.WAV"/><Relationship Id="rId68" Type="http://schemas.openxmlformats.org/officeDocument/2006/relationships/audio" Target="../media/LASER.WAV"/><Relationship Id="rId69" Type="http://schemas.openxmlformats.org/officeDocument/2006/relationships/audio" Target="../media/LASER.WAV"/><Relationship Id="rId70" Type="http://schemas.openxmlformats.org/officeDocument/2006/relationships/audio" Target="../media/LASER.WAV"/><Relationship Id="rId71" Type="http://schemas.openxmlformats.org/officeDocument/2006/relationships/audio" Target="../media/LASER.WAV"/><Relationship Id="rId72" Type="http://schemas.openxmlformats.org/officeDocument/2006/relationships/audio" Target="../media/LASER.WAV"/><Relationship Id="rId73" Type="http://schemas.openxmlformats.org/officeDocument/2006/relationships/audio" Target="../media/LASER.WAV"/><Relationship Id="rId74" Type="http://schemas.openxmlformats.org/officeDocument/2006/relationships/audio" Target="../media/LASER.WAV"/><Relationship Id="rId75" Type="http://schemas.openxmlformats.org/officeDocument/2006/relationships/audio" Target="../media/LASER.WAV"/><Relationship Id="rId76" Type="http://schemas.openxmlformats.org/officeDocument/2006/relationships/audio" Target="../media/LASER.WAV"/><Relationship Id="rId77" Type="http://schemas.openxmlformats.org/officeDocument/2006/relationships/audio" Target="../media/LASER.WAV"/><Relationship Id="rId78" Type="http://schemas.openxmlformats.org/officeDocument/2006/relationships/audio" Target="../media/LASER.WAV"/><Relationship Id="rId79" Type="http://schemas.openxmlformats.org/officeDocument/2006/relationships/audio" Target="../media/LASER.WAV"/><Relationship Id="rId80" Type="http://schemas.openxmlformats.org/officeDocument/2006/relationships/audio" Target="../media/LASER.WAV"/><Relationship Id="rId81" Type="http://schemas.openxmlformats.org/officeDocument/2006/relationships/audio" Target="../media/LASER.WAV"/><Relationship Id="rId82" Type="http://schemas.openxmlformats.org/officeDocument/2006/relationships/audio" Target="../media/LASER.WAV"/><Relationship Id="rId83" Type="http://schemas.openxmlformats.org/officeDocument/2006/relationships/audio" Target="../media/LASER.WAV"/><Relationship Id="rId84" Type="http://schemas.openxmlformats.org/officeDocument/2006/relationships/audio" Target="../media/LASER.WAV"/><Relationship Id="rId8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5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56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57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58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59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4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60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33.wmf"/><Relationship Id="rId51" Type="http://schemas.openxmlformats.org/officeDocument/2006/relationships/audio" Target="../media/CAMERA.WAV"/><Relationship Id="rId52" Type="http://schemas.openxmlformats.org/officeDocument/2006/relationships/audio" Target="../media/LASER.WAV"/><Relationship Id="rId53" Type="http://schemas.openxmlformats.org/officeDocument/2006/relationships/audio" Target="../media/LASER.WAV"/><Relationship Id="rId54" Type="http://schemas.openxmlformats.org/officeDocument/2006/relationships/audio" Target="../media/driveby.wav"/><Relationship Id="rId55" Type="http://schemas.openxmlformats.org/officeDocument/2006/relationships/audio" Target="../media/EXPLODE.WAV"/><Relationship Id="rId56" Type="http://schemas.openxmlformats.org/officeDocument/2006/relationships/audio" Target="../media/EXPLODE.WAV"/><Relationship Id="rId57" Type="http://schemas.openxmlformats.org/officeDocument/2006/relationships/audio" Target="../media/EXPLODE.WAV"/><Relationship Id="rId58" Type="http://schemas.openxmlformats.org/officeDocument/2006/relationships/audio" Target="../media/driveby.wav"/><Relationship Id="rId59" Type="http://schemas.openxmlformats.org/officeDocument/2006/relationships/audio" Target="../media/LASER.WAV"/><Relationship Id="rId60" Type="http://schemas.openxmlformats.org/officeDocument/2006/relationships/audio" Target="../media/driveby.wav"/><Relationship Id="rId61" Type="http://schemas.openxmlformats.org/officeDocument/2006/relationships/audio" Target="../media/LASER.WAV"/><Relationship Id="rId62" Type="http://schemas.openxmlformats.org/officeDocument/2006/relationships/audio" Target="../media/driveby.wav"/><Relationship Id="rId63" Type="http://schemas.openxmlformats.org/officeDocument/2006/relationships/audio" Target="../media/LASER.WAV"/><Relationship Id="rId64" Type="http://schemas.openxmlformats.org/officeDocument/2006/relationships/audio" Target="../media/EXPLODE.WAV"/><Relationship Id="rId65" Type="http://schemas.openxmlformats.org/officeDocument/2006/relationships/audio" Target="../media/drumroll.wav"/><Relationship Id="rId66" Type="http://schemas.openxmlformats.org/officeDocument/2006/relationships/audio" Target="../media/LASER.WAV"/><Relationship Id="rId67" Type="http://schemas.openxmlformats.org/officeDocument/2006/relationships/audio" Target="../media/LASER.WAV"/><Relationship Id="rId68" Type="http://schemas.openxmlformats.org/officeDocument/2006/relationships/audio" Target="../media/LASER.WAV"/><Relationship Id="rId69" Type="http://schemas.openxmlformats.org/officeDocument/2006/relationships/audio" Target="../media/LASER.WAV"/><Relationship Id="rId70" Type="http://schemas.openxmlformats.org/officeDocument/2006/relationships/audio" Target="../media/LASER.WAV"/><Relationship Id="rId71" Type="http://schemas.openxmlformats.org/officeDocument/2006/relationships/audio" Target="../media/LASER.WAV"/><Relationship Id="rId72" Type="http://schemas.openxmlformats.org/officeDocument/2006/relationships/audio" Target="../media/LASER.WAV"/><Relationship Id="rId73" Type="http://schemas.openxmlformats.org/officeDocument/2006/relationships/audio" Target="../media/LASER.WAV"/><Relationship Id="rId74" Type="http://schemas.openxmlformats.org/officeDocument/2006/relationships/audio" Target="../media/LASER.WAV"/><Relationship Id="rId75" Type="http://schemas.openxmlformats.org/officeDocument/2006/relationships/audio" Target="../media/LASER.WAV"/><Relationship Id="rId76" Type="http://schemas.openxmlformats.org/officeDocument/2006/relationships/audio" Target="../media/LASER.WAV"/><Relationship Id="rId77" Type="http://schemas.openxmlformats.org/officeDocument/2006/relationships/audio" Target="../media/LASER.WAV"/><Relationship Id="rId78" Type="http://schemas.openxmlformats.org/officeDocument/2006/relationships/audio" Target="../media/LASER.WAV"/><Relationship Id="rId79" Type="http://schemas.openxmlformats.org/officeDocument/2006/relationships/audio" Target="../media/LASER.WAV"/><Relationship Id="rId80" Type="http://schemas.openxmlformats.org/officeDocument/2006/relationships/audio" Target="../media/LASER.WAV"/><Relationship Id="rId81" Type="http://schemas.openxmlformats.org/officeDocument/2006/relationships/audio" Target="../media/LASER.WAV"/><Relationship Id="rId82" Type="http://schemas.openxmlformats.org/officeDocument/2006/relationships/audio" Target="../media/LASER.WAV"/><Relationship Id="rId83" Type="http://schemas.openxmlformats.org/officeDocument/2006/relationships/audio" Target="../media/LASER.WAV"/><Relationship Id="rId84" Type="http://schemas.openxmlformats.org/officeDocument/2006/relationships/audio" Target="../media/LASER.WAV"/><Relationship Id="rId8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for the indicated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33520" y="1447920"/>
          <a:ext cx="5343480" cy="146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5343480" cy="14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5029200" y="3581280"/>
          <a:ext cx="466560" cy="66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3581280"/>
                    <a:ext cx="46656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3581280" y="3581280"/>
          <a:ext cx="466920" cy="66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3581280"/>
                    <a:ext cx="4669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4800600" y="3581280"/>
            <a:ext cx="7621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3581280"/>
            <a:ext cx="9223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410080" y="1752480"/>
                <a:ext cx="91440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2" name=""/>
          <p:cNvGraphicFramePr/>
          <p:nvPr/>
        </p:nvGraphicFramePr>
        <p:xfrm>
          <a:off x="3246480" y="2921040"/>
          <a:ext cx="981000" cy="61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46480" y="2921040"/>
                    <a:ext cx="98100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316400" y="2895480"/>
          <a:ext cx="1290600" cy="67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16400" y="2895480"/>
                    <a:ext cx="129060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200400" y="4114800"/>
          <a:ext cx="2608200" cy="2075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00400" y="4114800"/>
                    <a:ext cx="2608200" cy="20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0" y="1295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1.  Area of a Tri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352680" y="1790640"/>
                <a:ext cx="8859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 flipV="1">
            <a:off x="4724280" y="236232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943600" y="190512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for the indicated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03360" y="1849320"/>
          <a:ext cx="520200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1849320"/>
                    <a:ext cx="52020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800600" y="2514600"/>
          <a:ext cx="88092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514600"/>
                    <a:ext cx="88092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755880" y="2514600"/>
          <a:ext cx="881280" cy="66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55880" y="2514600"/>
                    <a:ext cx="88128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4876920" y="2514600"/>
            <a:ext cx="76176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2514600"/>
            <a:ext cx="9223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505320" y="3352680"/>
          <a:ext cx="2473200" cy="2075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3352680"/>
                    <a:ext cx="2473200" cy="20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0" y="1295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2.  Circumference of a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for the indicated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57280" y="1873080"/>
          <a:ext cx="5295960" cy="6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873080"/>
                    <a:ext cx="5295960" cy="6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903920" y="2565360"/>
          <a:ext cx="67464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03920" y="2565360"/>
                    <a:ext cx="6746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3859200" y="2565360"/>
          <a:ext cx="674640" cy="56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59200" y="2565360"/>
                    <a:ext cx="6746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4876920" y="2514600"/>
            <a:ext cx="76176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2514600"/>
            <a:ext cx="9223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571920" y="3352680"/>
          <a:ext cx="2338200" cy="2075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71920" y="3352680"/>
                    <a:ext cx="2338200" cy="20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1295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3.  Simple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for the indicated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4800" y="1873080"/>
          <a:ext cx="5200560" cy="6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1873080"/>
                    <a:ext cx="5200560" cy="6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826160" y="2540160"/>
          <a:ext cx="83016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26160" y="2540160"/>
                    <a:ext cx="8301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781440" y="2540160"/>
          <a:ext cx="830160" cy="61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1440" y="2540160"/>
                    <a:ext cx="8301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4876920" y="2514600"/>
            <a:ext cx="76176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2514600"/>
            <a:ext cx="9223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538440" y="3352680"/>
          <a:ext cx="2405160" cy="2075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38440" y="3352680"/>
                    <a:ext cx="2405160" cy="20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0" y="1295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4.  Simple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838080" y="3581280"/>
            <a:ext cx="6858000" cy="2971800"/>
            <a:chOff x="838080" y="3581280"/>
            <a:chExt cx="6858000" cy="2971800"/>
          </a:xfrm>
        </p:grpSpPr>
        <p:sp>
          <p:nvSpPr>
            <p:cNvPr id="102" name=""/>
            <p:cNvSpPr/>
            <p:nvPr/>
          </p:nvSpPr>
          <p:spPr>
            <a:xfrm>
              <a:off x="838080" y="3581280"/>
              <a:ext cx="6858000" cy="2971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8080" y="4191120"/>
              <a:ext cx="685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05120" y="3581280"/>
              <a:ext cx="0" cy="297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9920" y="3581280"/>
              <a:ext cx="0" cy="297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8080" y="5410080"/>
              <a:ext cx="685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8080" y="4800600"/>
              <a:ext cx="685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8080" y="6019920"/>
              <a:ext cx="685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2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Rewrite the equation so y is a function of x. Then use the result to find y when x = -2, -1, 0, and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80880" y="1676520"/>
          <a:ext cx="364176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364176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066680" y="3581280"/>
          <a:ext cx="55404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581280"/>
                    <a:ext cx="5540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463920" y="2133720"/>
          <a:ext cx="1193760" cy="61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63920" y="2133720"/>
                    <a:ext cx="119376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743200" y="2971800"/>
          <a:ext cx="517680" cy="671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2971800"/>
                    <a:ext cx="5176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143000" y="2133720"/>
          <a:ext cx="1193760" cy="612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3000" y="2133720"/>
                    <a:ext cx="11937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143000" y="2819520"/>
            <a:ext cx="37339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124080" y="2895480"/>
          <a:ext cx="2168640" cy="621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24080" y="2895480"/>
                    <a:ext cx="2168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895480" y="3581280"/>
          <a:ext cx="1773360" cy="655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95480" y="3581280"/>
                    <a:ext cx="177336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6629400" y="3505320"/>
          <a:ext cx="554040" cy="709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629400" y="3505320"/>
                    <a:ext cx="55404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873000" y="4141800"/>
          <a:ext cx="943200" cy="654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73000" y="4141800"/>
                    <a:ext cx="94320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914400" y="4724280"/>
          <a:ext cx="831960" cy="654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14400" y="4724280"/>
                    <a:ext cx="83196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143000" y="5334120"/>
          <a:ext cx="498600" cy="653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143000" y="5334120"/>
                    <a:ext cx="498600" cy="65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219320" y="5943600"/>
          <a:ext cx="442800" cy="6541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219320" y="5943600"/>
                    <a:ext cx="44280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905120" y="4191120"/>
                <a:ext cx="21016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7" name=""/>
          <p:cNvGraphicFramePr/>
          <p:nvPr/>
        </p:nvGraphicFramePr>
        <p:xfrm>
          <a:off x="3886200" y="4191120"/>
          <a:ext cx="2101680" cy="5158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886200" y="4191120"/>
                    <a:ext cx="210168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6400800" y="4191120"/>
          <a:ext cx="824040" cy="6062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400800" y="4191120"/>
                    <a:ext cx="82404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981080" y="4800600"/>
                <a:ext cx="20671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2" name=""/>
          <p:cNvGraphicFramePr/>
          <p:nvPr/>
        </p:nvGraphicFramePr>
        <p:xfrm>
          <a:off x="3962520" y="4800600"/>
          <a:ext cx="1947600" cy="5461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962520" y="4800600"/>
                    <a:ext cx="19476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6781680" y="4800600"/>
          <a:ext cx="414360" cy="6094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781680" y="4800600"/>
                    <a:ext cx="414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133720" y="5410080"/>
                <a:ext cx="172224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7" name=""/>
          <p:cNvGraphicFramePr/>
          <p:nvPr/>
        </p:nvGraphicFramePr>
        <p:xfrm>
          <a:off x="3886200" y="5410080"/>
          <a:ext cx="1625760" cy="5461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886200" y="5410080"/>
                    <a:ext cx="1625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705720" y="5410080"/>
          <a:ext cx="466560" cy="609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705720" y="5410080"/>
                    <a:ext cx="4665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133720" y="6019920"/>
                <a:ext cx="180180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2" name=""/>
          <p:cNvGraphicFramePr/>
          <p:nvPr/>
        </p:nvGraphicFramePr>
        <p:xfrm>
          <a:off x="4008600" y="5981760"/>
          <a:ext cx="1668240" cy="5713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4008600" y="5981760"/>
                    <a:ext cx="16682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6553080" y="5943600"/>
          <a:ext cx="685800" cy="6048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553080" y="5943600"/>
                    <a:ext cx="68580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762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Rewrite the equation so y is a function of x. Then use the result to find y when x = -2, -1, 0, and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1676520"/>
          <a:ext cx="373680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37368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7315200" y="2133720"/>
          <a:ext cx="46656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5200" y="2133720"/>
                    <a:ext cx="4665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6156360" y="2133720"/>
          <a:ext cx="466560" cy="61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6360" y="2133720"/>
                    <a:ext cx="4665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7162920" y="213372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865840" y="2328840"/>
          <a:ext cx="2890800" cy="160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65840" y="2328840"/>
                    <a:ext cx="289080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5943600" y="2133720"/>
            <a:ext cx="7621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171960" y="2209680"/>
          <a:ext cx="1141200" cy="61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71960" y="2209680"/>
                    <a:ext cx="114120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827360" y="2921040"/>
          <a:ext cx="826920" cy="77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7360" y="2921040"/>
                    <a:ext cx="8269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419120" y="2209680"/>
          <a:ext cx="114156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19120" y="2209680"/>
                    <a:ext cx="11415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809640" y="2819520"/>
            <a:ext cx="37339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514600" y="2895480"/>
          <a:ext cx="2427120" cy="621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14600" y="2895480"/>
                    <a:ext cx="242712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8458200" y="2133720"/>
          <a:ext cx="466560" cy="612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458200" y="2133720"/>
                    <a:ext cx="4665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8305920" y="213372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891040" y="1523880"/>
          <a:ext cx="3252960" cy="776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91040" y="1523880"/>
                    <a:ext cx="325296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" name=""/>
          <p:cNvGrpSpPr/>
          <p:nvPr/>
        </p:nvGrpSpPr>
        <p:grpSpPr>
          <a:xfrm>
            <a:off x="838080" y="3809880"/>
            <a:ext cx="6858000" cy="2971800"/>
            <a:chOff x="838080" y="3809880"/>
            <a:chExt cx="6858000" cy="2971800"/>
          </a:xfrm>
        </p:grpSpPr>
        <p:sp>
          <p:nvSpPr>
            <p:cNvPr id="183" name=""/>
            <p:cNvSpPr/>
            <p:nvPr/>
          </p:nvSpPr>
          <p:spPr>
            <a:xfrm>
              <a:off x="838080" y="3809880"/>
              <a:ext cx="6858000" cy="2971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38080" y="4419720"/>
              <a:ext cx="685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905120" y="3809880"/>
              <a:ext cx="0" cy="297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19920" y="3809880"/>
              <a:ext cx="0" cy="297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8080" y="5638680"/>
              <a:ext cx="685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38080" y="5029200"/>
              <a:ext cx="685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8080" y="6248520"/>
              <a:ext cx="685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0" name=""/>
          <p:cNvGraphicFramePr/>
          <p:nvPr/>
        </p:nvGraphicFramePr>
        <p:xfrm>
          <a:off x="1066680" y="3809880"/>
          <a:ext cx="554040" cy="546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066680" y="3809880"/>
                    <a:ext cx="5540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2673360" y="3809880"/>
          <a:ext cx="2217600" cy="6559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673360" y="3809880"/>
                    <a:ext cx="221760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6629400" y="3733920"/>
          <a:ext cx="554040" cy="709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629400" y="3733920"/>
                    <a:ext cx="55404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873000" y="4370400"/>
          <a:ext cx="943200" cy="654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873000" y="4370400"/>
                    <a:ext cx="94320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914400" y="4952880"/>
          <a:ext cx="831960" cy="6541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914400" y="4952880"/>
                    <a:ext cx="83196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143000" y="5562720"/>
          <a:ext cx="498600" cy="6537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143000" y="5562720"/>
                    <a:ext cx="498600" cy="65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1219320" y="6172200"/>
          <a:ext cx="442800" cy="6541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219320" y="6172200"/>
                    <a:ext cx="44280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905120" y="4419720"/>
                <a:ext cx="21682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5" name=""/>
          <p:cNvGraphicFramePr/>
          <p:nvPr/>
        </p:nvGraphicFramePr>
        <p:xfrm>
          <a:off x="4016520" y="4419720"/>
          <a:ext cx="1839600" cy="5158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016520" y="4419720"/>
                    <a:ext cx="18396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6605640" y="4419720"/>
          <a:ext cx="412560" cy="6062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605640" y="4419720"/>
                    <a:ext cx="41256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905120" y="5029200"/>
                <a:ext cx="21384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0" name=""/>
          <p:cNvGraphicFramePr/>
          <p:nvPr/>
        </p:nvGraphicFramePr>
        <p:xfrm>
          <a:off x="3916440" y="5029200"/>
          <a:ext cx="2039760" cy="5461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3916440" y="5029200"/>
                    <a:ext cx="2039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6477120" y="5029200"/>
          <a:ext cx="776160" cy="6094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6477120" y="5029200"/>
                    <a:ext cx="7761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057400" y="5638680"/>
                <a:ext cx="18702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5" name=""/>
          <p:cNvGraphicFramePr/>
          <p:nvPr/>
        </p:nvGraphicFramePr>
        <p:xfrm>
          <a:off x="3863880" y="5638680"/>
          <a:ext cx="1671840" cy="54612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863880" y="5638680"/>
                    <a:ext cx="16718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6680160" y="5638680"/>
          <a:ext cx="519120" cy="6098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680160" y="5638680"/>
                    <a:ext cx="5191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981080" y="6230880"/>
                <a:ext cx="19494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20" name=""/>
          <p:cNvGraphicFramePr/>
          <p:nvPr/>
        </p:nvGraphicFramePr>
        <p:xfrm>
          <a:off x="4030560" y="6210360"/>
          <a:ext cx="1622520" cy="57132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4030560" y="6210360"/>
                    <a:ext cx="16225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6480000" y="6172200"/>
          <a:ext cx="831960" cy="6048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6480000" y="6172200"/>
                    <a:ext cx="83196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3000"/>
                            </p:stCondLst>
                            <p:childTnLst>
                              <p:par>
                                <p:cTn id="3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762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Rewrite the equation so y is a function of x. Then use the result to find y when x = -2, -1, 0, and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09600" y="1676520"/>
          <a:ext cx="378468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1676520"/>
                    <a:ext cx="378468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7289640" y="2133720"/>
          <a:ext cx="51912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89640" y="2133720"/>
                    <a:ext cx="5191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130800" y="2133720"/>
          <a:ext cx="519120" cy="61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30800" y="2133720"/>
                    <a:ext cx="5191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7162920" y="213372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095880" y="2819520"/>
          <a:ext cx="2530440" cy="776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5880" y="2819520"/>
                    <a:ext cx="253044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5943600" y="2133720"/>
            <a:ext cx="7621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143000" y="2133720"/>
          <a:ext cx="882720" cy="61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3000" y="2133720"/>
                    <a:ext cx="8827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28600" y="2743200"/>
          <a:ext cx="2016000" cy="619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" y="2743200"/>
                    <a:ext cx="201600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3276720" y="2133720"/>
          <a:ext cx="88092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76720" y="2133720"/>
                    <a:ext cx="8809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838080" y="2743200"/>
            <a:ext cx="37339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057400" y="2743200"/>
          <a:ext cx="1343160" cy="776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057400" y="2743200"/>
                    <a:ext cx="134316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8624880" y="2133720"/>
          <a:ext cx="519120" cy="612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624880" y="2133720"/>
                    <a:ext cx="5191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8305920" y="213372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840280" y="1523880"/>
          <a:ext cx="3303720" cy="776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40280" y="1523880"/>
                    <a:ext cx="330372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0" name=""/>
          <p:cNvGrpSpPr/>
          <p:nvPr/>
        </p:nvGrpSpPr>
        <p:grpSpPr>
          <a:xfrm>
            <a:off x="838080" y="3809880"/>
            <a:ext cx="6858000" cy="2971800"/>
            <a:chOff x="838080" y="3809880"/>
            <a:chExt cx="6858000" cy="2971800"/>
          </a:xfrm>
        </p:grpSpPr>
        <p:sp>
          <p:nvSpPr>
            <p:cNvPr id="251" name=""/>
            <p:cNvSpPr/>
            <p:nvPr/>
          </p:nvSpPr>
          <p:spPr>
            <a:xfrm>
              <a:off x="838080" y="3809880"/>
              <a:ext cx="6858000" cy="2971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8080" y="4419720"/>
              <a:ext cx="685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05120" y="3809880"/>
              <a:ext cx="0" cy="297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19920" y="3809880"/>
              <a:ext cx="0" cy="297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8080" y="5638680"/>
              <a:ext cx="685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8080" y="5029200"/>
              <a:ext cx="685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8080" y="6248520"/>
              <a:ext cx="685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58" name=""/>
          <p:cNvGraphicFramePr/>
          <p:nvPr/>
        </p:nvGraphicFramePr>
        <p:xfrm>
          <a:off x="1066680" y="3809880"/>
          <a:ext cx="554040" cy="546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066680" y="3809880"/>
                    <a:ext cx="5540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2949480" y="3809880"/>
          <a:ext cx="1663920" cy="6559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949480" y="3809880"/>
                    <a:ext cx="166392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6629400" y="3733920"/>
          <a:ext cx="554040" cy="709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629400" y="3733920"/>
                    <a:ext cx="55404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873000" y="4370400"/>
          <a:ext cx="943200" cy="654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873000" y="4370400"/>
                    <a:ext cx="94320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914400" y="4952880"/>
          <a:ext cx="831960" cy="6541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914400" y="4952880"/>
                    <a:ext cx="83196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1143000" y="5562720"/>
          <a:ext cx="498600" cy="6537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143000" y="5562720"/>
                    <a:ext cx="498600" cy="65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1219320" y="6172200"/>
          <a:ext cx="442800" cy="6541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219320" y="6172200"/>
                    <a:ext cx="44280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1981080" y="4419720"/>
                <a:ext cx="19605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73" name=""/>
          <p:cNvGraphicFramePr/>
          <p:nvPr/>
        </p:nvGraphicFramePr>
        <p:xfrm>
          <a:off x="3906720" y="4419720"/>
          <a:ext cx="2059200" cy="5158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906720" y="4419720"/>
                    <a:ext cx="20592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6373800" y="4419720"/>
          <a:ext cx="878040" cy="6062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373800" y="4419720"/>
                    <a:ext cx="87804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2057400" y="5046840"/>
                <a:ext cx="1981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78" name=""/>
          <p:cNvGraphicFramePr/>
          <p:nvPr/>
        </p:nvGraphicFramePr>
        <p:xfrm>
          <a:off x="4008600" y="5029200"/>
          <a:ext cx="1854000" cy="5461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008600" y="5029200"/>
                    <a:ext cx="18540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6426360" y="5029200"/>
          <a:ext cx="879480" cy="6094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6426360" y="5029200"/>
                    <a:ext cx="879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133720" y="5638680"/>
                <a:ext cx="16761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83" name=""/>
          <p:cNvGraphicFramePr/>
          <p:nvPr/>
        </p:nvGraphicFramePr>
        <p:xfrm>
          <a:off x="3909960" y="5638680"/>
          <a:ext cx="1577880" cy="54612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909960" y="5638680"/>
                    <a:ext cx="15778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6730920" y="5638680"/>
          <a:ext cx="416160" cy="6098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730920" y="5638680"/>
                    <a:ext cx="4161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2209680" y="6245280"/>
                <a:ext cx="16574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88" name=""/>
          <p:cNvGraphicFramePr/>
          <p:nvPr/>
        </p:nvGraphicFramePr>
        <p:xfrm>
          <a:off x="4076640" y="6210360"/>
          <a:ext cx="1530360" cy="57132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4076640" y="6210360"/>
                    <a:ext cx="15303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6675480" y="6172200"/>
          <a:ext cx="439560" cy="6048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6675480" y="6172200"/>
                    <a:ext cx="43956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3000"/>
                            </p:stCondLst>
                            <p:childTnLst>
                              <p:par>
                                <p:cTn id="5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500"/>
                            </p:stCondLst>
                            <p:childTnLst>
                              <p:par>
                                <p:cTn id="58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 SKELTON</cp:lastModifiedBy>
  <dcterms:modified xsi:type="dcterms:W3CDTF">2004-09-07T21:19:08Z</dcterms:modified>
  <cp:revision>203</cp:revision>
  <dc:subject/>
  <dc:title>No Slide Title</dc:title>
</cp:coreProperties>
</file>